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C19-D729-44B3-A7B9-389EF084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C5F-526E-4B7A-9F71-8610202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7A9-EC17-407B-A8B6-10073CFB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E21-E07F-4713-BBD5-DAD76DB6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929-4E2A-46BF-ABD0-4B1B488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A26-0311-4DE6-BD26-4BBFA16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878-C08F-4772-B567-A3852081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F33-A78F-463B-A68B-8A3C2F31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42C-EF60-42AE-8A4F-B0303DD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55B-78F2-4D36-BFD4-CDDB316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B1B-4CB7-420E-8E17-899DF47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81A-58AB-4B9D-8426-B5BD0C8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4d1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0157-A3E7-4E08-9633-EC8D7644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an_PP_Dark"/>
          <p:cNvPicPr/>
          <p:nvPr/>
        </p:nvPicPr>
        <p:blipFill>
          <a:blip r:embed="rId2"/>
          <a:stretch/>
        </p:blipFill>
        <p:spPr>
          <a:xfrm>
            <a:off x="7172280" y="4343400"/>
            <a:ext cx="1971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Line 1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b1b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iseas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Can_PP_Dark"/>
          <p:cNvPicPr/>
          <p:nvPr/>
        </p:nvPicPr>
        <p:blipFill>
          <a:blip r:embed="rId1"/>
          <a:stretch/>
        </p:blipFill>
        <p:spPr>
          <a:xfrm>
            <a:off x="3763800" y="0"/>
            <a:ext cx="53802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Rectangle 14"/>
          <p:cNvSpPr/>
          <p:nvPr/>
        </p:nvSpPr>
        <p:spPr>
          <a:xfrm>
            <a:off x="0" y="0"/>
            <a:ext cx="3809880" cy="6858000"/>
          </a:xfrm>
          <a:prstGeom prst="rect">
            <a:avLst/>
          </a:prstGeom>
          <a:solidFill>
            <a:srgbClr val="b1ba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calcium consumption during critical bone-building years is putting kids at risk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steoporosi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where decreased bone strength increas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ddition to cavities, heavy pop consumption has been linke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st alarming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esity is becoming a youth epide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ity rates have risen in tandem with soda consumption. Childhood obesity in the U.S. has doubled in the last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ity is linked to a variety of                 chronic disease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I Diabe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4d1312"/>
                </a:solidFill>
                <a:latin typeface="Times New Roman"/>
              </a:rPr>
              <a:t>What tooth decay in youth can look like.</a:t>
            </a:r>
            <a:endParaRPr b="1" i="1" lang="en-US" sz="3800" spc="-1" strike="noStrike">
              <a:solidFill>
                <a:srgbClr val="cfd5d7"/>
              </a:solidFill>
              <a:latin typeface="Times New Roman"/>
            </a:endParaRPr>
          </a:p>
        </p:txBody>
      </p:sp>
      <p:pic>
        <p:nvPicPr>
          <p:cNvPr id="74" name="Picture 23" descr="Mouth 1"/>
          <p:cNvPicPr/>
          <p:nvPr/>
        </p:nvPicPr>
        <p:blipFill>
          <a:blip r:embed="rId1"/>
          <a:stretch/>
        </p:blipFill>
        <p:spPr>
          <a:xfrm>
            <a:off x="380880" y="1905120"/>
            <a:ext cx="2403720" cy="203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Mouth 2"/>
          <p:cNvPicPr/>
          <p:nvPr/>
        </p:nvPicPr>
        <p:blipFill>
          <a:blip r:embed="rId2"/>
          <a:stretch/>
        </p:blipFill>
        <p:spPr>
          <a:xfrm>
            <a:off x="6324480" y="1905120"/>
            <a:ext cx="240372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Mouth 3"/>
          <p:cNvPicPr/>
          <p:nvPr/>
        </p:nvPicPr>
        <p:blipFill>
          <a:blip r:embed="rId3"/>
          <a:stretch/>
        </p:blipFill>
        <p:spPr>
          <a:xfrm>
            <a:off x="380880" y="4114800"/>
            <a:ext cx="2405160" cy="203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Mouth 4"/>
          <p:cNvPicPr/>
          <p:nvPr/>
        </p:nvPicPr>
        <p:blipFill>
          <a:blip r:embed="rId4"/>
          <a:stretch/>
        </p:blipFill>
        <p:spPr>
          <a:xfrm>
            <a:off x="6324480" y="4114800"/>
            <a:ext cx="2405160" cy="203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1" descr="Mouth 5"/>
          <p:cNvPicPr/>
          <p:nvPr/>
        </p:nvPicPr>
        <p:blipFill>
          <a:blip r:embed="rId5"/>
          <a:srcRect l="0" t="0" r="0" b="9209"/>
          <a:stretch/>
        </p:blipFill>
        <p:spPr>
          <a:xfrm>
            <a:off x="3048120" y="411480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2" descr="Mouth 6"/>
          <p:cNvPicPr/>
          <p:nvPr/>
        </p:nvPicPr>
        <p:blipFill>
          <a:blip r:embed="rId6"/>
          <a:srcRect l="0" t="6034" r="0" b="0"/>
          <a:stretch/>
        </p:blipFill>
        <p:spPr>
          <a:xfrm>
            <a:off x="3048120" y="1600200"/>
            <a:ext cx="2981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How Tooth Decay Starts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n pop combines with bacteria in the mouth to form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cid, in addition to the acid already present in the soft drink, attacks tee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id attack lasts about 20 minutes; Acid attacks start over again with every s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acid attacks weaken tooth          enam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ities begin when tooth enamel is     dam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How Tooth Decay Starts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! Diet or “sugar-free” pop still has acid that can harm your tee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hough sweetened fruit and sport drinks aren’t carbonated like pop, they too have acid and sugar that              can cause dec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consumption of soft drinks, including carbonated beverages, fruit juice and sports drinks has increased by 500% in the past 50 ye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s drank more than 53 gallons of soft drinks, per person, in 2000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mount surpassed all other bever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f every 4 beverages consumed today is a soft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 consumption, other          more nutritious beverages are being displaced from th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, 1/5 of all 1- to 2-year-old children drink soda po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, teens drink twice as much soda as mil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 years ago, teens drank                twice as much milk as so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Soda Sizes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636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1312"/>
                </a:solidFill>
                <a:latin typeface="Times New Roman"/>
              </a:rPr>
              <a:t>How sizes have chan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676520" y="6095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1920s size: 6.5 ou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895480" y="6095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ounce cans introduced in  the 196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19720" y="609588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ounce contour bottles introduced in  the early 199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943600" y="60958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liter contour bottles introduced in late 199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regular pop, all the calories come from suga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a pop is America’s single biggest source of refined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 to 19-year-old boys get </a:t>
            </a:r>
            <a:r>
              <a:rPr b="1" lang="en-US" sz="2800" spc="-1" strike="noStrike">
                <a:solidFill>
                  <a:srgbClr val="4d1312"/>
                </a:solidFill>
                <a:latin typeface="Arial"/>
              </a:rPr>
              <a:t>4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           their 34 teaspoons of sugar a day              from soft dr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ge of girls gets </a:t>
            </a:r>
            <a:r>
              <a:rPr b="1" lang="en-US" sz="2800" spc="-1" strike="noStrike">
                <a:solidFill>
                  <a:srgbClr val="4d1312"/>
                </a:solidFill>
                <a:latin typeface="Arial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            their 24 teaspoons of sugar from                 soft drin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- to 19-year-old boys who drink pop consume an average of 81 gallons per ye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the same age drink an average of 61 gall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 healthy 120 lb. person who eats a healthy diet and exercises regularl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one 20 oz. soda everyday can contribute enough extra calories to equal        27 lbs.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take 2 hours of moderate           walking to burn off the calories from              one 20 oz. s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20-oz. bottle of Mountain Dew contains 19 teaspoons of sugar. A person who drinks a bottle per day consumes just under 1.4 pounds of sugar per week from Mountain Dew alon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20-oz. bottle of Mountain Dew  contains 92 mg of caffeine,              nearly equivalent to an adult              dose of NoDoz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7:09:04Z</dcterms:created>
  <dc:creator>Melissa Albertson</dc:creator>
  <dc:description/>
  <dc:language>en-US</dc:language>
  <cp:lastModifiedBy>Daly Dominguez</cp:lastModifiedBy>
  <cp:lastPrinted>2015-10-05T19:46:21Z</cp:lastPrinted>
  <dcterms:modified xsi:type="dcterms:W3CDTF">2015-10-05T19:48:31Z</dcterms:modified>
  <cp:revision>53</cp:revision>
  <dc:subject/>
  <dc:title>Slide 1</dc:title>
</cp:coreProperties>
</file>